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drumroll.wav" ContentType="audio/x-wav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74D-0E8A-439F-9937-1ACCA524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A0F-A602-4A44-BD5E-586F7DF4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25B-A7D2-403E-BD38-DBB46925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DD0-6BD0-49FA-B159-81BCB6F7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BC9-9109-4D1E-BFB9-7EE41955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ED0-891C-400E-9ACD-741FB9F6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363-7574-44A5-8671-928481DC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FA7-DF2F-4C89-8DE1-4E4ECB6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9BF-70C6-4CE8-9B1B-6EF92189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849-37F5-4D01-A847-F0DD4DFE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148-E8E1-4860-89D2-8DC267D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42C-C32F-44E3-86D5-62B08247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1019-7D4B-467B-A1C4-9F954A85B8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66680" y="2362320"/>
            <a:ext cx="485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.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atural Exponential Function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7760" y="52560"/>
            <a:ext cx="59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definite integ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5120" y="96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399960" y="507960"/>
                <a:ext cx="1428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2895480" y="457200"/>
                <a:ext cx="12718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8"/>
              <p:cNvSpPr txBox="1"/>
              <p:nvPr/>
            </p:nvSpPr>
            <p:spPr>
              <a:xfrm>
                <a:off x="4876920" y="533520"/>
                <a:ext cx="1685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4724280" y="1447920"/>
                <a:ext cx="18194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0" y="2362320"/>
                <a:ext cx="226368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2819520" y="2743200"/>
                <a:ext cx="2166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2514600" y="1371600"/>
                <a:ext cx="2114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3"/>
              <p:cNvSpPr txBox="1"/>
              <p:nvPr/>
            </p:nvSpPr>
            <p:spPr>
              <a:xfrm>
                <a:off x="5257800" y="2362320"/>
                <a:ext cx="160020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15"/>
          <p:cNvSpPr/>
          <p:nvPr/>
        </p:nvSpPr>
        <p:spPr>
          <a:xfrm>
            <a:off x="174960" y="4876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6"/>
              <p:cNvSpPr txBox="1"/>
              <p:nvPr/>
            </p:nvSpPr>
            <p:spPr>
              <a:xfrm>
                <a:off x="514440" y="4267080"/>
                <a:ext cx="245736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4800600" y="4038480"/>
                <a:ext cx="1828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8"/>
              <p:cNvSpPr txBox="1"/>
              <p:nvPr/>
            </p:nvSpPr>
            <p:spPr>
              <a:xfrm>
                <a:off x="4876920" y="4724280"/>
                <a:ext cx="17524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9"/>
              <p:cNvSpPr txBox="1"/>
              <p:nvPr/>
            </p:nvSpPr>
            <p:spPr>
              <a:xfrm>
                <a:off x="4876920" y="5334120"/>
                <a:ext cx="1676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0"/>
              <p:cNvSpPr txBox="1"/>
              <p:nvPr/>
            </p:nvSpPr>
            <p:spPr>
              <a:xfrm>
                <a:off x="4952880" y="6095880"/>
                <a:ext cx="19051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21"/>
              <p:cNvSpPr txBox="1"/>
              <p:nvPr/>
            </p:nvSpPr>
            <p:spPr>
              <a:xfrm>
                <a:off x="228600" y="6172200"/>
                <a:ext cx="2514600" cy="19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2"/>
              <p:cNvSpPr txBox="1"/>
              <p:nvPr/>
            </p:nvSpPr>
            <p:spPr>
              <a:xfrm>
                <a:off x="2514600" y="7924680"/>
                <a:ext cx="2647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3"/>
              <p:cNvSpPr txBox="1"/>
              <p:nvPr/>
            </p:nvSpPr>
            <p:spPr>
              <a:xfrm>
                <a:off x="5334120" y="8001000"/>
                <a:ext cx="1085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Ink 21"/>
          <p:cNvSpPr/>
          <p:nvPr/>
        </p:nvSpPr>
        <p:spPr>
          <a:xfrm>
            <a:off x="2619360" y="3619440"/>
            <a:ext cx="500040" cy="619200"/>
          </a:xfrm>
          <a:custGeom>
            <a:avLst/>
            <a:gdLst/>
            <a:ahLst/>
            <a:rect l="l" t="t" r="r" b="b"/>
            <a:pathLst>
              <a:path w="1390" h="1721">
                <a:moveTo>
                  <a:pt x="7276" y="10583"/>
                </a:moveTo>
                <a:cubicBezTo>
                  <a:pt x="7452" y="10583"/>
                  <a:pt x="7629" y="10583"/>
                  <a:pt x="7805" y="10583"/>
                </a:cubicBezTo>
              </a:path>
              <a:path w="1390" h="1721">
                <a:moveTo>
                  <a:pt x="8169" y="10054"/>
                </a:moveTo>
                <a:cubicBezTo>
                  <a:pt x="8169" y="10213"/>
                  <a:pt x="8160" y="10377"/>
                  <a:pt x="8202" y="10517"/>
                </a:cubicBezTo>
                <a:cubicBezTo>
                  <a:pt x="8216" y="10564"/>
                  <a:pt x="8202" y="10634"/>
                  <a:pt x="8202" y="10683"/>
                </a:cubicBezTo>
              </a:path>
              <a:path w="1390" h="1721">
                <a:moveTo>
                  <a:pt x="8136" y="11013"/>
                </a:moveTo>
                <a:cubicBezTo>
                  <a:pt x="8312" y="11013"/>
                  <a:pt x="8489" y="11013"/>
                  <a:pt x="8665" y="11013"/>
                </a:cubicBezTo>
                <a:cubicBezTo>
                  <a:pt x="8665" y="11046"/>
                  <a:pt x="8665" y="11057"/>
                  <a:pt x="8665" y="11079"/>
                </a:cubicBezTo>
              </a:path>
              <a:path w="1390" h="1721">
                <a:moveTo>
                  <a:pt x="8334" y="11542"/>
                </a:moveTo>
                <a:cubicBezTo>
                  <a:pt x="8376" y="11542"/>
                  <a:pt x="8423" y="11532"/>
                  <a:pt x="8434" y="11509"/>
                </a:cubicBezTo>
                <a:cubicBezTo>
                  <a:pt x="8453" y="11472"/>
                  <a:pt x="8514" y="11472"/>
                  <a:pt x="8533" y="11443"/>
                </a:cubicBezTo>
                <a:cubicBezTo>
                  <a:pt x="8557" y="11408"/>
                  <a:pt x="8566" y="11359"/>
                  <a:pt x="8566" y="11311"/>
                </a:cubicBezTo>
                <a:cubicBezTo>
                  <a:pt x="8566" y="11278"/>
                  <a:pt x="8566" y="11245"/>
                  <a:pt x="8566" y="11212"/>
                </a:cubicBezTo>
                <a:cubicBezTo>
                  <a:pt x="8503" y="11212"/>
                  <a:pt x="8366" y="11181"/>
                  <a:pt x="8334" y="11245"/>
                </a:cubicBezTo>
                <a:cubicBezTo>
                  <a:pt x="8324" y="11265"/>
                  <a:pt x="8277" y="11403"/>
                  <a:pt x="8268" y="11410"/>
                </a:cubicBezTo>
                <a:cubicBezTo>
                  <a:pt x="8230" y="11440"/>
                  <a:pt x="8235" y="11439"/>
                  <a:pt x="8235" y="11509"/>
                </a:cubicBezTo>
                <a:cubicBezTo>
                  <a:pt x="8235" y="11554"/>
                  <a:pt x="8206" y="11755"/>
                  <a:pt x="8268" y="11774"/>
                </a:cubicBezTo>
                <a:cubicBezTo>
                  <a:pt x="8377" y="11808"/>
                  <a:pt x="8548" y="11774"/>
                  <a:pt x="8665" y="11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22"/>
          <p:cNvSpPr/>
          <p:nvPr/>
        </p:nvSpPr>
        <p:spPr>
          <a:xfrm>
            <a:off x="3321000" y="3606840"/>
            <a:ext cx="573120" cy="512640"/>
          </a:xfrm>
          <a:custGeom>
            <a:avLst/>
            <a:gdLst/>
            <a:ahLst/>
            <a:rect l="l" t="t" r="r" b="b"/>
            <a:pathLst>
              <a:path w="1589" h="1423">
                <a:moveTo>
                  <a:pt x="9227" y="10649"/>
                </a:moveTo>
                <a:cubicBezTo>
                  <a:pt x="9314" y="10649"/>
                  <a:pt x="9322" y="10636"/>
                  <a:pt x="9393" y="10616"/>
                </a:cubicBezTo>
                <a:cubicBezTo>
                  <a:pt x="9499" y="10586"/>
                  <a:pt x="9635" y="10528"/>
                  <a:pt x="9723" y="10484"/>
                </a:cubicBezTo>
                <a:cubicBezTo>
                  <a:pt x="9796" y="10448"/>
                  <a:pt x="9840" y="10432"/>
                  <a:pt x="9856" y="10385"/>
                </a:cubicBezTo>
              </a:path>
              <a:path w="1589" h="1423">
                <a:moveTo>
                  <a:pt x="9591" y="10319"/>
                </a:moveTo>
                <a:cubicBezTo>
                  <a:pt x="9591" y="10583"/>
                  <a:pt x="9591" y="11310"/>
                  <a:pt x="9591" y="11046"/>
                </a:cubicBezTo>
              </a:path>
              <a:path w="1589" h="1423">
                <a:moveTo>
                  <a:pt x="10782" y="10021"/>
                </a:moveTo>
                <a:cubicBezTo>
                  <a:pt x="10782" y="10431"/>
                  <a:pt x="10780" y="10839"/>
                  <a:pt x="10815" y="11245"/>
                </a:cubicBezTo>
                <a:cubicBezTo>
                  <a:pt x="10821" y="11309"/>
                  <a:pt x="10815" y="11378"/>
                  <a:pt x="10815" y="11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23"/>
          <p:cNvSpPr/>
          <p:nvPr/>
        </p:nvSpPr>
        <p:spPr>
          <a:xfrm>
            <a:off x="4106880" y="3357720"/>
            <a:ext cx="453960" cy="60120"/>
          </a:xfrm>
          <a:custGeom>
            <a:avLst/>
            <a:gdLst/>
            <a:ahLst/>
            <a:rect l="l" t="t" r="r" b="b"/>
            <a:pathLst>
              <a:path w="1258" h="166">
                <a:moveTo>
                  <a:pt x="11410" y="9426"/>
                </a:moveTo>
                <a:cubicBezTo>
                  <a:pt x="11509" y="9426"/>
                  <a:pt x="11609" y="9426"/>
                  <a:pt x="11708" y="9426"/>
                </a:cubicBezTo>
                <a:cubicBezTo>
                  <a:pt x="11731" y="9461"/>
                  <a:pt x="11783" y="9478"/>
                  <a:pt x="11840" y="9492"/>
                </a:cubicBezTo>
              </a:path>
              <a:path w="1258" h="166">
                <a:moveTo>
                  <a:pt x="12270" y="9360"/>
                </a:moveTo>
                <a:cubicBezTo>
                  <a:pt x="12345" y="9360"/>
                  <a:pt x="12374" y="9347"/>
                  <a:pt x="12435" y="9327"/>
                </a:cubicBezTo>
                <a:cubicBezTo>
                  <a:pt x="12497" y="9306"/>
                  <a:pt x="12602" y="9327"/>
                  <a:pt x="12667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24"/>
          <p:cNvSpPr/>
          <p:nvPr/>
        </p:nvSpPr>
        <p:spPr>
          <a:xfrm>
            <a:off x="3619440" y="2833560"/>
            <a:ext cx="393840" cy="250920"/>
          </a:xfrm>
          <a:custGeom>
            <a:avLst/>
            <a:gdLst/>
            <a:ahLst/>
            <a:rect l="l" t="t" r="r" b="b"/>
            <a:pathLst>
              <a:path w="1093" h="696">
                <a:moveTo>
                  <a:pt x="10418" y="7871"/>
                </a:moveTo>
                <a:cubicBezTo>
                  <a:pt x="10321" y="7871"/>
                  <a:pt x="10238" y="7878"/>
                  <a:pt x="10186" y="7904"/>
                </a:cubicBezTo>
                <a:cubicBezTo>
                  <a:pt x="10143" y="7925"/>
                  <a:pt x="10154" y="7987"/>
                  <a:pt x="10120" y="8004"/>
                </a:cubicBezTo>
                <a:cubicBezTo>
                  <a:pt x="10055" y="8037"/>
                  <a:pt x="10121" y="8042"/>
                  <a:pt x="10087" y="8103"/>
                </a:cubicBezTo>
                <a:cubicBezTo>
                  <a:pt x="10057" y="8158"/>
                  <a:pt x="10054" y="8168"/>
                  <a:pt x="10054" y="8235"/>
                </a:cubicBezTo>
                <a:cubicBezTo>
                  <a:pt x="10054" y="8312"/>
                  <a:pt x="10054" y="8390"/>
                  <a:pt x="10054" y="8467"/>
                </a:cubicBezTo>
                <a:cubicBezTo>
                  <a:pt x="10136" y="8467"/>
                  <a:pt x="10181" y="8481"/>
                  <a:pt x="10220" y="8500"/>
                </a:cubicBezTo>
                <a:cubicBezTo>
                  <a:pt x="10262" y="8521"/>
                  <a:pt x="10299" y="8533"/>
                  <a:pt x="10352" y="8533"/>
                </a:cubicBezTo>
                <a:cubicBezTo>
                  <a:pt x="10413" y="8533"/>
                  <a:pt x="10430" y="8560"/>
                  <a:pt x="10484" y="8566"/>
                </a:cubicBezTo>
                <a:cubicBezTo>
                  <a:pt x="10620" y="8581"/>
                  <a:pt x="10830" y="8575"/>
                  <a:pt x="10914" y="8533"/>
                </a:cubicBezTo>
                <a:cubicBezTo>
                  <a:pt x="10944" y="8518"/>
                  <a:pt x="11026" y="8530"/>
                  <a:pt x="11046" y="8500"/>
                </a:cubicBezTo>
                <a:cubicBezTo>
                  <a:pt x="11053" y="8489"/>
                  <a:pt x="11069" y="8408"/>
                  <a:pt x="11079" y="8401"/>
                </a:cubicBezTo>
                <a:cubicBezTo>
                  <a:pt x="11109" y="8377"/>
                  <a:pt x="11142" y="8384"/>
                  <a:pt x="11146" y="8334"/>
                </a:cubicBezTo>
                <a:cubicBezTo>
                  <a:pt x="11153" y="8245"/>
                  <a:pt x="11136" y="8204"/>
                  <a:pt x="11113" y="8136"/>
                </a:cubicBezTo>
                <a:cubicBezTo>
                  <a:pt x="11096" y="8086"/>
                  <a:pt x="11083" y="8097"/>
                  <a:pt x="11046" y="8070"/>
                </a:cubicBezTo>
                <a:cubicBezTo>
                  <a:pt x="11015" y="8047"/>
                  <a:pt x="10928" y="7967"/>
                  <a:pt x="10914" y="7938"/>
                </a:cubicBezTo>
                <a:cubicBezTo>
                  <a:pt x="10896" y="7902"/>
                  <a:pt x="10874" y="7878"/>
                  <a:pt x="10815" y="7871"/>
                </a:cubicBezTo>
                <a:cubicBezTo>
                  <a:pt x="10734" y="7862"/>
                  <a:pt x="10685" y="7886"/>
                  <a:pt x="10649" y="7904"/>
                </a:cubicBezTo>
                <a:cubicBezTo>
                  <a:pt x="10611" y="7923"/>
                  <a:pt x="10605" y="7980"/>
                  <a:pt x="10550" y="8004"/>
                </a:cubicBezTo>
                <a:cubicBezTo>
                  <a:pt x="10539" y="8004"/>
                  <a:pt x="10528" y="8004"/>
                  <a:pt x="10517" y="8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25"/>
          <p:cNvSpPr/>
          <p:nvPr/>
        </p:nvSpPr>
        <p:spPr>
          <a:xfrm>
            <a:off x="5583240" y="3870360"/>
            <a:ext cx="727200" cy="333360"/>
          </a:xfrm>
          <a:custGeom>
            <a:avLst/>
            <a:gdLst/>
            <a:ahLst/>
            <a:rect l="l" t="t" r="r" b="b"/>
            <a:pathLst>
              <a:path w="2019" h="927">
                <a:moveTo>
                  <a:pt x="15511" y="10749"/>
                </a:moveTo>
                <a:cubicBezTo>
                  <a:pt x="15511" y="10980"/>
                  <a:pt x="15511" y="11608"/>
                  <a:pt x="15511" y="11377"/>
                </a:cubicBezTo>
              </a:path>
              <a:path w="2019" h="927">
                <a:moveTo>
                  <a:pt x="16040" y="10947"/>
                </a:moveTo>
                <a:cubicBezTo>
                  <a:pt x="16040" y="11168"/>
                  <a:pt x="16040" y="11763"/>
                  <a:pt x="16040" y="11542"/>
                </a:cubicBezTo>
              </a:path>
              <a:path w="2019" h="927">
                <a:moveTo>
                  <a:pt x="15908" y="11245"/>
                </a:moveTo>
                <a:cubicBezTo>
                  <a:pt x="15989" y="11245"/>
                  <a:pt x="16039" y="11239"/>
                  <a:pt x="16107" y="11212"/>
                </a:cubicBezTo>
                <a:cubicBezTo>
                  <a:pt x="16222" y="11166"/>
                  <a:pt x="16354" y="11169"/>
                  <a:pt x="16470" y="11146"/>
                </a:cubicBezTo>
                <a:cubicBezTo>
                  <a:pt x="16503" y="11146"/>
                  <a:pt x="16514" y="11146"/>
                  <a:pt x="16536" y="11146"/>
                </a:cubicBezTo>
              </a:path>
              <a:path w="2019" h="927">
                <a:moveTo>
                  <a:pt x="16636" y="11311"/>
                </a:moveTo>
                <a:cubicBezTo>
                  <a:pt x="16768" y="11311"/>
                  <a:pt x="16901" y="11311"/>
                  <a:pt x="17033" y="11311"/>
                </a:cubicBezTo>
                <a:cubicBezTo>
                  <a:pt x="17033" y="11256"/>
                  <a:pt x="17033" y="11201"/>
                  <a:pt x="17033" y="11146"/>
                </a:cubicBezTo>
                <a:cubicBezTo>
                  <a:pt x="16958" y="11146"/>
                  <a:pt x="16987" y="11120"/>
                  <a:pt x="16933" y="11113"/>
                </a:cubicBezTo>
                <a:cubicBezTo>
                  <a:pt x="16866" y="11105"/>
                  <a:pt x="16853" y="11129"/>
                  <a:pt x="16801" y="11146"/>
                </a:cubicBezTo>
                <a:cubicBezTo>
                  <a:pt x="16752" y="11162"/>
                  <a:pt x="16770" y="11222"/>
                  <a:pt x="16735" y="11245"/>
                </a:cubicBezTo>
                <a:cubicBezTo>
                  <a:pt x="16702" y="11267"/>
                  <a:pt x="16675" y="11262"/>
                  <a:pt x="16669" y="11311"/>
                </a:cubicBezTo>
                <a:cubicBezTo>
                  <a:pt x="16656" y="11411"/>
                  <a:pt x="16676" y="11523"/>
                  <a:pt x="16702" y="11576"/>
                </a:cubicBezTo>
                <a:cubicBezTo>
                  <a:pt x="16728" y="11629"/>
                  <a:pt x="16721" y="11635"/>
                  <a:pt x="16801" y="11642"/>
                </a:cubicBezTo>
                <a:cubicBezTo>
                  <a:pt x="16858" y="11647"/>
                  <a:pt x="16882" y="11669"/>
                  <a:pt x="16933" y="11675"/>
                </a:cubicBezTo>
                <a:cubicBezTo>
                  <a:pt x="17030" y="11686"/>
                  <a:pt x="17133" y="11675"/>
                  <a:pt x="17231" y="11675"/>
                </a:cubicBezTo>
              </a:path>
              <a:path w="2019" h="927">
                <a:moveTo>
                  <a:pt x="17429" y="10947"/>
                </a:moveTo>
                <a:cubicBezTo>
                  <a:pt x="17376" y="10947"/>
                  <a:pt x="17228" y="10919"/>
                  <a:pt x="17198" y="10980"/>
                </a:cubicBezTo>
                <a:cubicBezTo>
                  <a:pt x="17190" y="10995"/>
                  <a:pt x="17173" y="11107"/>
                  <a:pt x="17165" y="11113"/>
                </a:cubicBezTo>
                <a:cubicBezTo>
                  <a:pt x="17128" y="11144"/>
                  <a:pt x="17132" y="11142"/>
                  <a:pt x="17132" y="11212"/>
                </a:cubicBezTo>
                <a:cubicBezTo>
                  <a:pt x="17132" y="11253"/>
                  <a:pt x="17143" y="11300"/>
                  <a:pt x="17165" y="11311"/>
                </a:cubicBezTo>
                <a:cubicBezTo>
                  <a:pt x="17246" y="11351"/>
                  <a:pt x="17438" y="11311"/>
                  <a:pt x="17529" y="11311"/>
                </a:cubicBezTo>
                <a:cubicBezTo>
                  <a:pt x="17529" y="11214"/>
                  <a:pt x="17522" y="11131"/>
                  <a:pt x="17496" y="11079"/>
                </a:cubicBezTo>
                <a:cubicBezTo>
                  <a:pt x="17496" y="11046"/>
                  <a:pt x="17496" y="11035"/>
                  <a:pt x="17463" y="11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26"/>
          <p:cNvSpPr/>
          <p:nvPr/>
        </p:nvSpPr>
        <p:spPr>
          <a:xfrm>
            <a:off x="4749840" y="4487760"/>
            <a:ext cx="2025720" cy="1656000"/>
          </a:xfrm>
          <a:custGeom>
            <a:avLst/>
            <a:gdLst/>
            <a:ahLst/>
            <a:rect l="l" t="t" r="r" b="b"/>
            <a:pathLst>
              <a:path w="5623" h="4599">
                <a:moveTo>
                  <a:pt x="18091" y="13461"/>
                </a:moveTo>
                <a:cubicBezTo>
                  <a:pt x="18060" y="13435"/>
                  <a:pt x="17975" y="13336"/>
                  <a:pt x="17959" y="13328"/>
                </a:cubicBezTo>
                <a:cubicBezTo>
                  <a:pt x="17923" y="13311"/>
                  <a:pt x="17864" y="13308"/>
                  <a:pt x="17826" y="13295"/>
                </a:cubicBezTo>
                <a:cubicBezTo>
                  <a:pt x="17761" y="13272"/>
                  <a:pt x="17663" y="13238"/>
                  <a:pt x="17595" y="13229"/>
                </a:cubicBezTo>
                <a:cubicBezTo>
                  <a:pt x="17247" y="13183"/>
                  <a:pt x="16878" y="13250"/>
                  <a:pt x="16536" y="13295"/>
                </a:cubicBezTo>
                <a:cubicBezTo>
                  <a:pt x="16372" y="13316"/>
                  <a:pt x="16207" y="13325"/>
                  <a:pt x="16040" y="13328"/>
                </a:cubicBezTo>
                <a:cubicBezTo>
                  <a:pt x="15773" y="13334"/>
                  <a:pt x="15493" y="13327"/>
                  <a:pt x="15247" y="13361"/>
                </a:cubicBezTo>
                <a:cubicBezTo>
                  <a:pt x="15171" y="13372"/>
                  <a:pt x="15087" y="13375"/>
                  <a:pt x="15015" y="13395"/>
                </a:cubicBezTo>
                <a:cubicBezTo>
                  <a:pt x="14919" y="13421"/>
                  <a:pt x="14786" y="13432"/>
                  <a:pt x="14684" y="13461"/>
                </a:cubicBezTo>
                <a:cubicBezTo>
                  <a:pt x="14582" y="13490"/>
                  <a:pt x="14485" y="13550"/>
                  <a:pt x="14387" y="13593"/>
                </a:cubicBezTo>
                <a:cubicBezTo>
                  <a:pt x="14319" y="13623"/>
                  <a:pt x="14219" y="13644"/>
                  <a:pt x="14155" y="13692"/>
                </a:cubicBezTo>
                <a:cubicBezTo>
                  <a:pt x="14073" y="13753"/>
                  <a:pt x="14047" y="13796"/>
                  <a:pt x="13957" y="13858"/>
                </a:cubicBezTo>
                <a:cubicBezTo>
                  <a:pt x="13867" y="13920"/>
                  <a:pt x="13772" y="13980"/>
                  <a:pt x="13692" y="14056"/>
                </a:cubicBezTo>
                <a:cubicBezTo>
                  <a:pt x="13608" y="14136"/>
                  <a:pt x="13533" y="14231"/>
                  <a:pt x="13461" y="14321"/>
                </a:cubicBezTo>
                <a:cubicBezTo>
                  <a:pt x="13393" y="14405"/>
                  <a:pt x="13341" y="14498"/>
                  <a:pt x="13295" y="14585"/>
                </a:cubicBezTo>
                <a:cubicBezTo>
                  <a:pt x="13263" y="14646"/>
                  <a:pt x="13241" y="14704"/>
                  <a:pt x="13229" y="14751"/>
                </a:cubicBezTo>
                <a:cubicBezTo>
                  <a:pt x="13210" y="14826"/>
                  <a:pt x="13200" y="14892"/>
                  <a:pt x="13196" y="14982"/>
                </a:cubicBezTo>
                <a:cubicBezTo>
                  <a:pt x="13190" y="15134"/>
                  <a:pt x="13229" y="15247"/>
                  <a:pt x="13262" y="15346"/>
                </a:cubicBezTo>
                <a:cubicBezTo>
                  <a:pt x="13288" y="15425"/>
                  <a:pt x="13299" y="15472"/>
                  <a:pt x="13361" y="15544"/>
                </a:cubicBezTo>
                <a:cubicBezTo>
                  <a:pt x="13417" y="15609"/>
                  <a:pt x="13456" y="15694"/>
                  <a:pt x="13494" y="15743"/>
                </a:cubicBezTo>
                <a:cubicBezTo>
                  <a:pt x="13571" y="15844"/>
                  <a:pt x="13668" y="15936"/>
                  <a:pt x="13758" y="16040"/>
                </a:cubicBezTo>
                <a:cubicBezTo>
                  <a:pt x="13844" y="16141"/>
                  <a:pt x="13930" y="16265"/>
                  <a:pt x="14023" y="16338"/>
                </a:cubicBezTo>
                <a:cubicBezTo>
                  <a:pt x="14111" y="16407"/>
                  <a:pt x="14172" y="16409"/>
                  <a:pt x="14254" y="16470"/>
                </a:cubicBezTo>
                <a:cubicBezTo>
                  <a:pt x="14311" y="16513"/>
                  <a:pt x="14350" y="16554"/>
                  <a:pt x="14420" y="16603"/>
                </a:cubicBezTo>
                <a:cubicBezTo>
                  <a:pt x="14502" y="16660"/>
                  <a:pt x="14613" y="16752"/>
                  <a:pt x="14684" y="16801"/>
                </a:cubicBezTo>
                <a:cubicBezTo>
                  <a:pt x="14800" y="16882"/>
                  <a:pt x="14846" y="16889"/>
                  <a:pt x="14982" y="16933"/>
                </a:cubicBezTo>
                <a:cubicBezTo>
                  <a:pt x="15100" y="16971"/>
                  <a:pt x="15157" y="16980"/>
                  <a:pt x="15280" y="16999"/>
                </a:cubicBezTo>
                <a:cubicBezTo>
                  <a:pt x="15436" y="17023"/>
                  <a:pt x="15584" y="17055"/>
                  <a:pt x="15743" y="17066"/>
                </a:cubicBezTo>
                <a:cubicBezTo>
                  <a:pt x="15968" y="17081"/>
                  <a:pt x="16187" y="17045"/>
                  <a:pt x="16404" y="17033"/>
                </a:cubicBezTo>
                <a:cubicBezTo>
                  <a:pt x="16526" y="17026"/>
                  <a:pt x="16652" y="17036"/>
                  <a:pt x="16768" y="16999"/>
                </a:cubicBezTo>
                <a:cubicBezTo>
                  <a:pt x="16977" y="16932"/>
                  <a:pt x="17137" y="16800"/>
                  <a:pt x="17330" y="16702"/>
                </a:cubicBezTo>
                <a:cubicBezTo>
                  <a:pt x="17494" y="16619"/>
                  <a:pt x="17643" y="16545"/>
                  <a:pt x="17793" y="16437"/>
                </a:cubicBezTo>
                <a:cubicBezTo>
                  <a:pt x="17894" y="16364"/>
                  <a:pt x="18015" y="16258"/>
                  <a:pt x="18124" y="16173"/>
                </a:cubicBezTo>
                <a:cubicBezTo>
                  <a:pt x="18245" y="16079"/>
                  <a:pt x="18323" y="15995"/>
                  <a:pt x="18422" y="15875"/>
                </a:cubicBezTo>
                <a:cubicBezTo>
                  <a:pt x="18485" y="15798"/>
                  <a:pt x="18532" y="15720"/>
                  <a:pt x="18587" y="15643"/>
                </a:cubicBezTo>
                <a:cubicBezTo>
                  <a:pt x="18612" y="15607"/>
                  <a:pt x="18666" y="15548"/>
                  <a:pt x="18686" y="15511"/>
                </a:cubicBezTo>
                <a:cubicBezTo>
                  <a:pt x="18720" y="15449"/>
                  <a:pt x="18762" y="15379"/>
                  <a:pt x="18785" y="15313"/>
                </a:cubicBezTo>
                <a:cubicBezTo>
                  <a:pt x="18838" y="15160"/>
                  <a:pt x="18805" y="15067"/>
                  <a:pt x="18785" y="14916"/>
                </a:cubicBezTo>
                <a:cubicBezTo>
                  <a:pt x="18765" y="14770"/>
                  <a:pt x="18705" y="14685"/>
                  <a:pt x="18653" y="14552"/>
                </a:cubicBezTo>
                <a:cubicBezTo>
                  <a:pt x="18613" y="14449"/>
                  <a:pt x="18614" y="14356"/>
                  <a:pt x="18587" y="14254"/>
                </a:cubicBezTo>
                <a:cubicBezTo>
                  <a:pt x="18560" y="14153"/>
                  <a:pt x="18519" y="14055"/>
                  <a:pt x="18488" y="13957"/>
                </a:cubicBezTo>
                <a:cubicBezTo>
                  <a:pt x="18475" y="13916"/>
                  <a:pt x="18443" y="13789"/>
                  <a:pt x="18422" y="13758"/>
                </a:cubicBezTo>
                <a:cubicBezTo>
                  <a:pt x="18394" y="13716"/>
                  <a:pt x="18360" y="13725"/>
                  <a:pt x="18322" y="13692"/>
                </a:cubicBezTo>
                <a:cubicBezTo>
                  <a:pt x="18286" y="13660"/>
                  <a:pt x="18254" y="13645"/>
                  <a:pt x="18190" y="13593"/>
                </a:cubicBezTo>
                <a:cubicBezTo>
                  <a:pt x="18081" y="13504"/>
                  <a:pt x="17993" y="13444"/>
                  <a:pt x="17892" y="13328"/>
                </a:cubicBezTo>
                <a:cubicBezTo>
                  <a:pt x="17659" y="13062"/>
                  <a:pt x="17572" y="12792"/>
                  <a:pt x="17429" y="12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27"/>
          <p:cNvSpPr/>
          <p:nvPr/>
        </p:nvSpPr>
        <p:spPr>
          <a:xfrm>
            <a:off x="4749840" y="404640"/>
            <a:ext cx="2049480" cy="1810080"/>
          </a:xfrm>
          <a:custGeom>
            <a:avLst/>
            <a:gdLst/>
            <a:ahLst/>
            <a:rect l="l" t="t" r="r" b="b"/>
            <a:pathLst>
              <a:path w="5690" h="5029">
                <a:moveTo>
                  <a:pt x="15445" y="1158"/>
                </a:moveTo>
                <a:cubicBezTo>
                  <a:pt x="15392" y="1153"/>
                  <a:pt x="15359" y="1122"/>
                  <a:pt x="15313" y="1124"/>
                </a:cubicBezTo>
                <a:cubicBezTo>
                  <a:pt x="15216" y="1129"/>
                  <a:pt x="15102" y="1125"/>
                  <a:pt x="15015" y="1158"/>
                </a:cubicBezTo>
                <a:cubicBezTo>
                  <a:pt x="14872" y="1213"/>
                  <a:pt x="14657" y="1295"/>
                  <a:pt x="14519" y="1356"/>
                </a:cubicBezTo>
                <a:cubicBezTo>
                  <a:pt x="14420" y="1400"/>
                  <a:pt x="14315" y="1464"/>
                  <a:pt x="14221" y="1521"/>
                </a:cubicBezTo>
                <a:cubicBezTo>
                  <a:pt x="14123" y="1580"/>
                  <a:pt x="14016" y="1653"/>
                  <a:pt x="13924" y="1720"/>
                </a:cubicBezTo>
                <a:cubicBezTo>
                  <a:pt x="13824" y="1793"/>
                  <a:pt x="13677" y="1898"/>
                  <a:pt x="13593" y="1984"/>
                </a:cubicBezTo>
                <a:cubicBezTo>
                  <a:pt x="13501" y="2079"/>
                  <a:pt x="13386" y="2229"/>
                  <a:pt x="13328" y="2348"/>
                </a:cubicBezTo>
                <a:cubicBezTo>
                  <a:pt x="13287" y="2431"/>
                  <a:pt x="13256" y="2557"/>
                  <a:pt x="13229" y="2646"/>
                </a:cubicBezTo>
                <a:cubicBezTo>
                  <a:pt x="13203" y="2734"/>
                  <a:pt x="13201" y="2805"/>
                  <a:pt x="13196" y="2910"/>
                </a:cubicBezTo>
                <a:cubicBezTo>
                  <a:pt x="13183" y="3218"/>
                  <a:pt x="13209" y="3458"/>
                  <a:pt x="13295" y="3737"/>
                </a:cubicBezTo>
                <a:cubicBezTo>
                  <a:pt x="13329" y="3845"/>
                  <a:pt x="13342" y="3991"/>
                  <a:pt x="13361" y="4101"/>
                </a:cubicBezTo>
                <a:cubicBezTo>
                  <a:pt x="13379" y="4208"/>
                  <a:pt x="13437" y="4282"/>
                  <a:pt x="13461" y="4366"/>
                </a:cubicBezTo>
                <a:cubicBezTo>
                  <a:pt x="13500" y="4501"/>
                  <a:pt x="13522" y="4577"/>
                  <a:pt x="13593" y="4696"/>
                </a:cubicBezTo>
                <a:cubicBezTo>
                  <a:pt x="13644" y="4781"/>
                  <a:pt x="13698" y="4846"/>
                  <a:pt x="13758" y="4928"/>
                </a:cubicBezTo>
                <a:cubicBezTo>
                  <a:pt x="13818" y="5010"/>
                  <a:pt x="13860" y="5045"/>
                  <a:pt x="13924" y="5126"/>
                </a:cubicBezTo>
                <a:cubicBezTo>
                  <a:pt x="14000" y="5222"/>
                  <a:pt x="14069" y="5288"/>
                  <a:pt x="14155" y="5358"/>
                </a:cubicBezTo>
                <a:cubicBezTo>
                  <a:pt x="14244" y="5432"/>
                  <a:pt x="14294" y="5455"/>
                  <a:pt x="14387" y="5523"/>
                </a:cubicBezTo>
                <a:cubicBezTo>
                  <a:pt x="14463" y="5579"/>
                  <a:pt x="14542" y="5633"/>
                  <a:pt x="14618" y="5689"/>
                </a:cubicBezTo>
                <a:cubicBezTo>
                  <a:pt x="14713" y="5758"/>
                  <a:pt x="14798" y="5808"/>
                  <a:pt x="14916" y="5854"/>
                </a:cubicBezTo>
                <a:cubicBezTo>
                  <a:pt x="15021" y="5895"/>
                  <a:pt x="15108" y="5917"/>
                  <a:pt x="15214" y="5953"/>
                </a:cubicBezTo>
                <a:cubicBezTo>
                  <a:pt x="15334" y="5994"/>
                  <a:pt x="15404" y="5999"/>
                  <a:pt x="15544" y="6019"/>
                </a:cubicBezTo>
                <a:cubicBezTo>
                  <a:pt x="15698" y="6041"/>
                  <a:pt x="15851" y="6089"/>
                  <a:pt x="16007" y="6118"/>
                </a:cubicBezTo>
                <a:cubicBezTo>
                  <a:pt x="16159" y="6146"/>
                  <a:pt x="16314" y="6149"/>
                  <a:pt x="16470" y="6152"/>
                </a:cubicBezTo>
                <a:cubicBezTo>
                  <a:pt x="16685" y="6156"/>
                  <a:pt x="16888" y="6150"/>
                  <a:pt x="17099" y="6118"/>
                </a:cubicBezTo>
                <a:cubicBezTo>
                  <a:pt x="17191" y="6104"/>
                  <a:pt x="17277" y="6084"/>
                  <a:pt x="17363" y="6052"/>
                </a:cubicBezTo>
                <a:cubicBezTo>
                  <a:pt x="17438" y="6024"/>
                  <a:pt x="17507" y="5937"/>
                  <a:pt x="17595" y="5887"/>
                </a:cubicBezTo>
                <a:cubicBezTo>
                  <a:pt x="17713" y="5821"/>
                  <a:pt x="17846" y="5761"/>
                  <a:pt x="17959" y="5689"/>
                </a:cubicBezTo>
                <a:cubicBezTo>
                  <a:pt x="18054" y="5628"/>
                  <a:pt x="18160" y="5491"/>
                  <a:pt x="18256" y="5424"/>
                </a:cubicBezTo>
                <a:cubicBezTo>
                  <a:pt x="18361" y="5351"/>
                  <a:pt x="18453" y="5305"/>
                  <a:pt x="18521" y="5192"/>
                </a:cubicBezTo>
                <a:cubicBezTo>
                  <a:pt x="18589" y="5079"/>
                  <a:pt x="18630" y="4925"/>
                  <a:pt x="18686" y="4829"/>
                </a:cubicBezTo>
                <a:cubicBezTo>
                  <a:pt x="18777" y="4674"/>
                  <a:pt x="18811" y="4598"/>
                  <a:pt x="18852" y="4432"/>
                </a:cubicBezTo>
                <a:cubicBezTo>
                  <a:pt x="18878" y="4325"/>
                  <a:pt x="18882" y="4214"/>
                  <a:pt x="18885" y="4101"/>
                </a:cubicBezTo>
                <a:cubicBezTo>
                  <a:pt x="18889" y="3908"/>
                  <a:pt x="18863" y="3725"/>
                  <a:pt x="18852" y="3539"/>
                </a:cubicBezTo>
                <a:cubicBezTo>
                  <a:pt x="18846" y="3443"/>
                  <a:pt x="18834" y="3354"/>
                  <a:pt x="18818" y="3274"/>
                </a:cubicBezTo>
                <a:cubicBezTo>
                  <a:pt x="18805" y="3206"/>
                  <a:pt x="18805" y="3143"/>
                  <a:pt x="18785" y="3076"/>
                </a:cubicBezTo>
                <a:cubicBezTo>
                  <a:pt x="18760" y="2995"/>
                  <a:pt x="18718" y="2924"/>
                  <a:pt x="18686" y="2844"/>
                </a:cubicBezTo>
                <a:cubicBezTo>
                  <a:pt x="18655" y="2767"/>
                  <a:pt x="18608" y="2696"/>
                  <a:pt x="18554" y="2646"/>
                </a:cubicBezTo>
                <a:cubicBezTo>
                  <a:pt x="18457" y="2557"/>
                  <a:pt x="18362" y="2472"/>
                  <a:pt x="18256" y="2381"/>
                </a:cubicBezTo>
                <a:cubicBezTo>
                  <a:pt x="18052" y="2206"/>
                  <a:pt x="17814" y="2042"/>
                  <a:pt x="17595" y="1885"/>
                </a:cubicBezTo>
                <a:cubicBezTo>
                  <a:pt x="17440" y="1773"/>
                  <a:pt x="17284" y="1669"/>
                  <a:pt x="17132" y="1554"/>
                </a:cubicBezTo>
                <a:cubicBezTo>
                  <a:pt x="17024" y="1472"/>
                  <a:pt x="16903" y="1414"/>
                  <a:pt x="16801" y="1356"/>
                </a:cubicBezTo>
                <a:cubicBezTo>
                  <a:pt x="16669" y="1280"/>
                  <a:pt x="16642" y="1281"/>
                  <a:pt x="16503" y="1257"/>
                </a:cubicBezTo>
                <a:cubicBezTo>
                  <a:pt x="16391" y="1238"/>
                  <a:pt x="16294" y="1226"/>
                  <a:pt x="16173" y="1224"/>
                </a:cubicBezTo>
                <a:cubicBezTo>
                  <a:pt x="15683" y="1214"/>
                  <a:pt x="15130" y="1158"/>
                  <a:pt x="14651" y="1257"/>
                </a:cubicBezTo>
                <a:cubicBezTo>
                  <a:pt x="14498" y="1289"/>
                  <a:pt x="14408" y="1340"/>
                  <a:pt x="14288" y="1389"/>
                </a:cubicBezTo>
                <a:cubicBezTo>
                  <a:pt x="14277" y="1400"/>
                  <a:pt x="14265" y="1411"/>
                  <a:pt x="14254" y="1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219960" y="658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685800" y="304920"/>
                <a:ext cx="26668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3200400" y="1828800"/>
                <a:ext cx="1447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4724280" y="914400"/>
                <a:ext cx="162396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4876920" y="2666880"/>
                <a:ext cx="152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124080" y="3352680"/>
                <a:ext cx="2590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304920" y="4876920"/>
                <a:ext cx="28191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u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447920" y="6172200"/>
                <a:ext cx="32004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2"/>
              <p:cNvSpPr txBox="1"/>
              <p:nvPr/>
            </p:nvSpPr>
            <p:spPr>
              <a:xfrm>
                <a:off x="4114800" y="7543800"/>
                <a:ext cx="1676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13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15"/>
          <p:cNvSpPr/>
          <p:nvPr/>
        </p:nvSpPr>
        <p:spPr>
          <a:xfrm>
            <a:off x="558360" y="1371600"/>
            <a:ext cx="49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inverse of this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6"/>
              <p:cNvSpPr txBox="1"/>
              <p:nvPr/>
            </p:nvSpPr>
            <p:spPr>
              <a:xfrm>
                <a:off x="2971800" y="304920"/>
                <a:ext cx="3124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Freeform 18"/>
          <p:cNvSpPr/>
          <p:nvPr/>
        </p:nvSpPr>
        <p:spPr>
          <a:xfrm rot="20646600">
            <a:off x="3827160" y="4959360"/>
            <a:ext cx="2162160" cy="366228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3662280"/>
              <a:gd name="textAreaBottom" fmla="*/ 3662640 h 3662280"/>
            </a:gdLst>
            <a:ahLst/>
            <a:rect l="textAreaLeft" t="textAreaTop" r="textAreaRight" b="textAreaBottom"/>
            <a:pathLst>
              <a:path w="2496" h="3264">
                <a:moveTo>
                  <a:pt x="0" y="3264"/>
                </a:moveTo>
                <a:cubicBezTo>
                  <a:pt x="272" y="2312"/>
                  <a:pt x="544" y="1360"/>
                  <a:pt x="960" y="816"/>
                </a:cubicBezTo>
                <a:cubicBezTo>
                  <a:pt x="1376" y="272"/>
                  <a:pt x="2240" y="136"/>
                  <a:pt x="2496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9"/>
              <p:cNvSpPr txBox="1"/>
              <p:nvPr/>
            </p:nvSpPr>
            <p:spPr>
              <a:xfrm>
                <a:off x="4724280" y="3962520"/>
                <a:ext cx="2019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20"/>
              <p:cNvSpPr txBox="1"/>
              <p:nvPr/>
            </p:nvSpPr>
            <p:spPr>
              <a:xfrm>
                <a:off x="4114800" y="2641680"/>
                <a:ext cx="190512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8"/>
          <p:cNvSpPr/>
          <p:nvPr/>
        </p:nvSpPr>
        <p:spPr>
          <a:xfrm>
            <a:off x="304920" y="609480"/>
            <a:ext cx="6553080" cy="132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find a derivative rule for                 us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tive rule for inver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9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1"/>
              <p:cNvSpPr txBox="1"/>
              <p:nvPr/>
            </p:nvSpPr>
            <p:spPr>
              <a:xfrm>
                <a:off x="4038480" y="685800"/>
                <a:ext cx="15433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22"/>
              <p:cNvSpPr txBox="1"/>
              <p:nvPr/>
            </p:nvSpPr>
            <p:spPr>
              <a:xfrm>
                <a:off x="1981080" y="2057400"/>
                <a:ext cx="29718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23"/>
              <p:cNvSpPr txBox="1"/>
              <p:nvPr/>
            </p:nvSpPr>
            <p:spPr>
              <a:xfrm>
                <a:off x="2800440" y="2641680"/>
                <a:ext cx="21524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24"/>
              <p:cNvSpPr txBox="1"/>
              <p:nvPr/>
            </p:nvSpPr>
            <p:spPr>
              <a:xfrm>
                <a:off x="2286000" y="3454560"/>
                <a:ext cx="31240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25"/>
              <p:cNvSpPr txBox="1"/>
              <p:nvPr/>
            </p:nvSpPr>
            <p:spPr>
              <a:xfrm>
                <a:off x="3143160" y="5079960"/>
                <a:ext cx="234324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26"/>
              <p:cNvSpPr txBox="1"/>
              <p:nvPr/>
            </p:nvSpPr>
            <p:spPr>
              <a:xfrm>
                <a:off x="2133720" y="6400800"/>
                <a:ext cx="1828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7"/>
              <p:cNvSpPr txBox="1"/>
              <p:nvPr/>
            </p:nvSpPr>
            <p:spPr>
              <a:xfrm>
                <a:off x="4343400" y="6781680"/>
                <a:ext cx="18288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14"/>
          <p:cNvSpPr/>
          <p:nvPr/>
        </p:nvSpPr>
        <p:spPr>
          <a:xfrm>
            <a:off x="514440" y="1523880"/>
            <a:ext cx="5543640" cy="6705720"/>
          </a:xfrm>
          <a:custGeom>
            <a:avLst/>
            <a:gdLst>
              <a:gd name="textAreaLeft" fmla="*/ 0 w 5543640"/>
              <a:gd name="textAreaRight" fmla="*/ 5543640 w 5543640"/>
              <a:gd name="textAreaTop" fmla="*/ 0 h 6705720"/>
              <a:gd name="textAreaBottom" fmla="*/ 6706080 h 6705720"/>
            </a:gdLst>
            <a:ahLst/>
            <a:rect l="textAreaLeft" t="textAreaTop" r="textAreaRight" b="textAreaBottom"/>
            <a:pathLst>
              <a:path w="4656" h="3168">
                <a:moveTo>
                  <a:pt x="384" y="432"/>
                </a:moveTo>
                <a:lnTo>
                  <a:pt x="1344" y="720"/>
                </a:lnTo>
                <a:lnTo>
                  <a:pt x="1584" y="0"/>
                </a:lnTo>
                <a:lnTo>
                  <a:pt x="2208" y="672"/>
                </a:lnTo>
                <a:lnTo>
                  <a:pt x="3360" y="48"/>
                </a:lnTo>
                <a:lnTo>
                  <a:pt x="3216" y="768"/>
                </a:lnTo>
                <a:lnTo>
                  <a:pt x="4560" y="576"/>
                </a:lnTo>
                <a:lnTo>
                  <a:pt x="3840" y="1392"/>
                </a:lnTo>
                <a:lnTo>
                  <a:pt x="4656" y="2256"/>
                </a:lnTo>
                <a:lnTo>
                  <a:pt x="3360" y="2112"/>
                </a:lnTo>
                <a:lnTo>
                  <a:pt x="3600" y="2976"/>
                </a:lnTo>
                <a:lnTo>
                  <a:pt x="2496" y="2208"/>
                </a:lnTo>
                <a:lnTo>
                  <a:pt x="2160" y="3168"/>
                </a:lnTo>
                <a:lnTo>
                  <a:pt x="1776" y="2208"/>
                </a:lnTo>
                <a:lnTo>
                  <a:pt x="960" y="2976"/>
                </a:lnTo>
                <a:lnTo>
                  <a:pt x="1008" y="1872"/>
                </a:lnTo>
                <a:lnTo>
                  <a:pt x="0" y="1872"/>
                </a:lnTo>
                <a:lnTo>
                  <a:pt x="864" y="1248"/>
                </a:lnTo>
                <a:lnTo>
                  <a:pt x="384" y="432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1676520" y="3276720"/>
          <a:ext cx="3485880" cy="25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76720"/>
                    <a:ext cx="348588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15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9"/>
          <p:cNvGrpSpPr/>
          <p:nvPr/>
        </p:nvGrpSpPr>
        <p:grpSpPr>
          <a:xfrm>
            <a:off x="2228760" y="4267080"/>
            <a:ext cx="2952360" cy="1930320"/>
            <a:chOff x="2228760" y="4267080"/>
            <a:chExt cx="2952360" cy="1930320"/>
          </a:xfrm>
        </p:grpSpPr>
        <p:sp>
          <p:nvSpPr>
            <p:cNvPr id="65" name="Rectangle 8"/>
            <p:cNvSpPr/>
            <p:nvPr/>
          </p:nvSpPr>
          <p:spPr>
            <a:xfrm>
              <a:off x="2228760" y="4267080"/>
              <a:ext cx="2952360" cy="1930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" name="Object 7"/>
            <p:cNvGraphicFramePr/>
            <p:nvPr/>
          </p:nvGraphicFramePr>
          <p:xfrm>
            <a:off x="2383920" y="4470120"/>
            <a:ext cx="2564280" cy="153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83920" y="4470120"/>
                      <a:ext cx="2564280" cy="153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" name="Rectangle 4"/>
          <p:cNvSpPr/>
          <p:nvPr/>
        </p:nvSpPr>
        <p:spPr>
          <a:xfrm>
            <a:off x="1771560" y="1219320"/>
            <a:ext cx="2971800" cy="111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771560" y="1219320"/>
            <a:ext cx="297180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295280" y="1219320"/>
          <a:ext cx="105588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219320"/>
                    <a:ext cx="10558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3"/>
          <p:cNvSpPr/>
          <p:nvPr/>
        </p:nvSpPr>
        <p:spPr>
          <a:xfrm>
            <a:off x="2416680" y="152388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s own derivat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622880" y="28447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incorporate the chai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3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27800" y="154080"/>
            <a:ext cx="55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th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63080" y="11667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685800" y="1015920"/>
                <a:ext cx="2286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7"/>
              <p:cNvSpPr txBox="1"/>
              <p:nvPr/>
            </p:nvSpPr>
            <p:spPr>
              <a:xfrm>
                <a:off x="628560" y="1930320"/>
                <a:ext cx="1962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2590920" y="1905120"/>
                <a:ext cx="2286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Rectangle 9"/>
          <p:cNvSpPr/>
          <p:nvPr/>
        </p:nvSpPr>
        <p:spPr>
          <a:xfrm>
            <a:off x="2590920" y="1752480"/>
            <a:ext cx="236196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4960" y="4363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773280" y="4267080"/>
                <a:ext cx="2046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2"/>
              <p:cNvSpPr txBox="1"/>
              <p:nvPr/>
            </p:nvSpPr>
            <p:spPr>
              <a:xfrm>
                <a:off x="514440" y="5587920"/>
                <a:ext cx="26859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3"/>
              <p:cNvSpPr txBox="1"/>
              <p:nvPr/>
            </p:nvSpPr>
            <p:spPr>
              <a:xfrm>
                <a:off x="3200400" y="5334120"/>
                <a:ext cx="2057400" cy="17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Rectangle 14"/>
          <p:cNvSpPr/>
          <p:nvPr/>
        </p:nvSpPr>
        <p:spPr>
          <a:xfrm>
            <a:off x="3200400" y="5105520"/>
            <a:ext cx="2286000" cy="223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486080" y="3556080"/>
            <a:ext cx="3543120" cy="2641680"/>
          </a:xfrm>
          <a:prstGeom prst="rect">
            <a:avLst/>
          </a:prstGeom>
          <a:solidFill>
            <a:srgbClr val="4f81bd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38080" y="13716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is its own derivative, what about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1219320" y="914400"/>
                <a:ext cx="7808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1523880" y="4165560"/>
                <a:ext cx="342900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33280" y="15408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32120" y="1117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542960" y="914400"/>
                <a:ext cx="2952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1657440" y="2133720"/>
                <a:ext cx="222876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4191120" y="1676520"/>
                <a:ext cx="22096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9"/>
              <p:cNvSpPr txBox="1"/>
              <p:nvPr/>
            </p:nvSpPr>
            <p:spPr>
              <a:xfrm>
                <a:off x="762120" y="3251160"/>
                <a:ext cx="22240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3124080" y="3429000"/>
                <a:ext cx="27432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 Box 12"/>
          <p:cNvSpPr/>
          <p:nvPr/>
        </p:nvSpPr>
        <p:spPr>
          <a:xfrm>
            <a:off x="536760" y="4876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3"/>
              <p:cNvSpPr txBox="1"/>
              <p:nvPr/>
            </p:nvSpPr>
            <p:spPr>
              <a:xfrm>
                <a:off x="838080" y="4724280"/>
                <a:ext cx="23623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295280" y="6019920"/>
                <a:ext cx="1752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5"/>
              <p:cNvSpPr txBox="1"/>
              <p:nvPr/>
            </p:nvSpPr>
            <p:spPr>
              <a:xfrm>
                <a:off x="4419720" y="601992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6"/>
              <p:cNvSpPr txBox="1"/>
              <p:nvPr/>
            </p:nvSpPr>
            <p:spPr>
              <a:xfrm>
                <a:off x="3352680" y="4876920"/>
                <a:ext cx="25527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8"/>
              <p:cNvSpPr txBox="1"/>
              <p:nvPr/>
            </p:nvSpPr>
            <p:spPr>
              <a:xfrm>
                <a:off x="762120" y="7238880"/>
                <a:ext cx="28954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9"/>
              <p:cNvSpPr txBox="1"/>
              <p:nvPr/>
            </p:nvSpPr>
            <p:spPr>
              <a:xfrm>
                <a:off x="3809880" y="7315200"/>
                <a:ext cx="259092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69200" y="1540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0320" y="10652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838080" y="762120"/>
                <a:ext cx="18288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2895480" y="1143000"/>
                <a:ext cx="1409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4495680" y="990720"/>
                <a:ext cx="182880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285840" y="2641680"/>
                <a:ext cx="23810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3733920" y="2666880"/>
                <a:ext cx="2819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12"/>
          <p:cNvSpPr/>
          <p:nvPr/>
        </p:nvSpPr>
        <p:spPr>
          <a:xfrm>
            <a:off x="220320" y="4925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14440" y="4572000"/>
                <a:ext cx="27622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4648320" y="4952880"/>
                <a:ext cx="1790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4629240" y="5562720"/>
                <a:ext cx="22287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6"/>
              <p:cNvSpPr txBox="1"/>
              <p:nvPr/>
            </p:nvSpPr>
            <p:spPr>
              <a:xfrm>
                <a:off x="285840" y="6095880"/>
                <a:ext cx="38289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Ink 14"/>
          <p:cNvSpPr/>
          <p:nvPr/>
        </p:nvSpPr>
        <p:spPr>
          <a:xfrm>
            <a:off x="1619280" y="6357960"/>
            <a:ext cx="237960" cy="357120"/>
          </a:xfrm>
          <a:custGeom>
            <a:avLst/>
            <a:gdLst/>
            <a:ahLst/>
            <a:rect l="l" t="t" r="r" b="b"/>
            <a:pathLst>
              <a:path w="662" h="993">
                <a:moveTo>
                  <a:pt x="4763" y="17661"/>
                </a:moveTo>
                <a:cubicBezTo>
                  <a:pt x="4763" y="17865"/>
                  <a:pt x="4803" y="18179"/>
                  <a:pt x="4729" y="18322"/>
                </a:cubicBezTo>
                <a:cubicBezTo>
                  <a:pt x="4715" y="18349"/>
                  <a:pt x="4699" y="18426"/>
                  <a:pt x="4696" y="18455"/>
                </a:cubicBezTo>
                <a:cubicBezTo>
                  <a:pt x="4694" y="18476"/>
                  <a:pt x="4696" y="18639"/>
                  <a:pt x="4696" y="18554"/>
                </a:cubicBezTo>
                <a:cubicBezTo>
                  <a:pt x="4696" y="18477"/>
                  <a:pt x="4696" y="18399"/>
                  <a:pt x="4696" y="18322"/>
                </a:cubicBezTo>
                <a:cubicBezTo>
                  <a:pt x="4641" y="18322"/>
                  <a:pt x="4586" y="18322"/>
                  <a:pt x="4531" y="18322"/>
                </a:cubicBezTo>
                <a:cubicBezTo>
                  <a:pt x="4531" y="18397"/>
                  <a:pt x="4515" y="18422"/>
                  <a:pt x="4498" y="18455"/>
                </a:cubicBezTo>
                <a:cubicBezTo>
                  <a:pt x="4479" y="18492"/>
                  <a:pt x="4493" y="18601"/>
                  <a:pt x="4531" y="18620"/>
                </a:cubicBezTo>
                <a:cubicBezTo>
                  <a:pt x="4556" y="18633"/>
                  <a:pt x="4638" y="18645"/>
                  <a:pt x="4663" y="18653"/>
                </a:cubicBezTo>
                <a:cubicBezTo>
                  <a:pt x="4696" y="18653"/>
                  <a:pt x="4707" y="18653"/>
                  <a:pt x="4729" y="18653"/>
                </a:cubicBezTo>
              </a:path>
              <a:path w="662" h="993">
                <a:moveTo>
                  <a:pt x="4895" y="18389"/>
                </a:moveTo>
                <a:cubicBezTo>
                  <a:pt x="4966" y="18413"/>
                  <a:pt x="4896" y="18431"/>
                  <a:pt x="4928" y="18488"/>
                </a:cubicBezTo>
                <a:cubicBezTo>
                  <a:pt x="4961" y="18547"/>
                  <a:pt x="4961" y="18554"/>
                  <a:pt x="5027" y="18554"/>
                </a:cubicBezTo>
                <a:cubicBezTo>
                  <a:pt x="5060" y="18554"/>
                  <a:pt x="5093" y="18554"/>
                  <a:pt x="5126" y="18554"/>
                </a:cubicBezTo>
                <a:cubicBezTo>
                  <a:pt x="5126" y="18460"/>
                  <a:pt x="5135" y="18369"/>
                  <a:pt x="5159" y="18322"/>
                </a:cubicBezTo>
                <a:cubicBezTo>
                  <a:pt x="5187" y="18267"/>
                  <a:pt x="5159" y="18348"/>
                  <a:pt x="5159" y="18389"/>
                </a:cubicBezTo>
                <a:cubicBezTo>
                  <a:pt x="5159" y="18438"/>
                  <a:pt x="5159" y="18676"/>
                  <a:pt x="5159" y="18620"/>
                </a:cubicBezTo>
                <a:cubicBezTo>
                  <a:pt x="5159" y="18609"/>
                  <a:pt x="5159" y="18598"/>
                  <a:pt x="5159" y="18587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5"/>
          <p:cNvSpPr/>
          <p:nvPr/>
        </p:nvSpPr>
        <p:spPr>
          <a:xfrm>
            <a:off x="798480" y="4560840"/>
            <a:ext cx="130320" cy="142920"/>
          </a:xfrm>
          <a:custGeom>
            <a:avLst/>
            <a:gdLst/>
            <a:ahLst/>
            <a:rect l="l" t="t" r="r" b="b"/>
            <a:pathLst>
              <a:path w="365" h="398">
                <a:moveTo>
                  <a:pt x="2315" y="12733"/>
                </a:moveTo>
                <a:cubicBezTo>
                  <a:pt x="2315" y="12807"/>
                  <a:pt x="2289" y="12778"/>
                  <a:pt x="2282" y="12832"/>
                </a:cubicBezTo>
                <a:cubicBezTo>
                  <a:pt x="2275" y="12890"/>
                  <a:pt x="2227" y="12911"/>
                  <a:pt x="2216" y="12932"/>
                </a:cubicBezTo>
                <a:cubicBezTo>
                  <a:pt x="2202" y="12960"/>
                  <a:pt x="2216" y="13033"/>
                  <a:pt x="2216" y="13064"/>
                </a:cubicBezTo>
                <a:cubicBezTo>
                  <a:pt x="2312" y="13064"/>
                  <a:pt x="2471" y="13088"/>
                  <a:pt x="2514" y="13031"/>
                </a:cubicBezTo>
                <a:cubicBezTo>
                  <a:pt x="2567" y="12961"/>
                  <a:pt x="2580" y="12960"/>
                  <a:pt x="2580" y="12865"/>
                </a:cubicBezTo>
                <a:cubicBezTo>
                  <a:pt x="2580" y="12797"/>
                  <a:pt x="2561" y="12794"/>
                  <a:pt x="2547" y="12766"/>
                </a:cubicBezTo>
                <a:cubicBezTo>
                  <a:pt x="2537" y="12747"/>
                  <a:pt x="2547" y="12689"/>
                  <a:pt x="2547" y="12667"/>
                </a:cubicBezTo>
                <a:cubicBezTo>
                  <a:pt x="2454" y="12667"/>
                  <a:pt x="2393" y="12674"/>
                  <a:pt x="2315" y="12700"/>
                </a:cubicBezTo>
                <a:cubicBezTo>
                  <a:pt x="2258" y="12719"/>
                  <a:pt x="2269" y="12672"/>
                  <a:pt x="2249" y="12733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6"/>
          <p:cNvSpPr/>
          <p:nvPr/>
        </p:nvSpPr>
        <p:spPr>
          <a:xfrm>
            <a:off x="642960" y="5464080"/>
            <a:ext cx="166680" cy="131760"/>
          </a:xfrm>
          <a:custGeom>
            <a:avLst/>
            <a:gdLst/>
            <a:ahLst/>
            <a:rect l="l" t="t" r="r" b="b"/>
            <a:pathLst>
              <a:path w="464" h="365">
                <a:moveTo>
                  <a:pt x="2051" y="15180"/>
                </a:moveTo>
                <a:cubicBezTo>
                  <a:pt x="1975" y="15180"/>
                  <a:pt x="1952" y="15196"/>
                  <a:pt x="1918" y="15214"/>
                </a:cubicBezTo>
                <a:cubicBezTo>
                  <a:pt x="1864" y="15242"/>
                  <a:pt x="1899" y="15275"/>
                  <a:pt x="1852" y="15346"/>
                </a:cubicBezTo>
                <a:cubicBezTo>
                  <a:pt x="1807" y="15413"/>
                  <a:pt x="1786" y="15353"/>
                  <a:pt x="1786" y="15445"/>
                </a:cubicBezTo>
                <a:cubicBezTo>
                  <a:pt x="1786" y="15499"/>
                  <a:pt x="1838" y="15482"/>
                  <a:pt x="1852" y="15511"/>
                </a:cubicBezTo>
                <a:cubicBezTo>
                  <a:pt x="1875" y="15557"/>
                  <a:pt x="1887" y="15544"/>
                  <a:pt x="1951" y="15544"/>
                </a:cubicBezTo>
                <a:cubicBezTo>
                  <a:pt x="2039" y="15544"/>
                  <a:pt x="2128" y="15544"/>
                  <a:pt x="2216" y="15544"/>
                </a:cubicBezTo>
                <a:cubicBezTo>
                  <a:pt x="2216" y="15476"/>
                  <a:pt x="2232" y="15434"/>
                  <a:pt x="2249" y="15379"/>
                </a:cubicBezTo>
                <a:cubicBezTo>
                  <a:pt x="2271" y="15305"/>
                  <a:pt x="2229" y="15242"/>
                  <a:pt x="2216" y="15214"/>
                </a:cubicBezTo>
                <a:cubicBezTo>
                  <a:pt x="2193" y="15167"/>
                  <a:pt x="2182" y="15180"/>
                  <a:pt x="2117" y="15180"/>
                </a:cubicBezTo>
                <a:cubicBezTo>
                  <a:pt x="2084" y="15180"/>
                  <a:pt x="2073" y="15180"/>
                  <a:pt x="2051" y="15180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3:52:38Z</dcterms:created>
  <dc:creator>Gregory Kelly</dc:creator>
  <dc:description/>
  <dc:language>en-US</dc:language>
  <cp:lastModifiedBy>sraja</cp:lastModifiedBy>
  <dcterms:modified xsi:type="dcterms:W3CDTF">2011-05-06T17:33:43Z</dcterms:modified>
  <cp:revision>193</cp:revision>
  <dc:subject>Derivatives of Exponential &amp; Logarithmic Functions</dc:subject>
  <dc:title>Calculus 3.9</dc:title>
</cp:coreProperties>
</file>